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D3D0-E1C9-4BD3-9C09-E7B7F17E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lect on set of partners to do part of investigation on the IWB and record for Consolidate and 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link to notebook for 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uide whole group in the summary of the misconceptions/struggles/partial understandings, perhaps assign tables to discuss one of the items with whole group if there isn’t a lot of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to keep participants on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to sh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ccess CLIPS on the edugains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djust the fram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uster List – the meaning of grey v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each of the three Icons: Calculator-variety of types, Wrench -tools, Book – on-line math gloss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the video and explain how there is a video for each CLIPS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the three new Icons: Chess – games, Link – other files, Apple – 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CLIPS in this cluster are set up, show sequence, select first CLIP to show that each CLIP has a number of activities, do not show any activities go to next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how the BLM 2.1 will be used: to make notes for your chosen CLIP and to record notes on the other CLIPS during group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lect on set of partners to do part of investigation on the IWB and record for Consolidate and 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5E3-031B-4F5F-9422-FCF8C03C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1DE-58D4-4FC6-9A15-E30E335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D8F-696F-4F89-A38E-310149D1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8B6-677D-4180-8FC8-7352B78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8CFA-197D-4267-862A-9F2075A1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1E16-39BE-47FC-98E0-5C7534A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796-7D67-4CDC-8574-2971A3A1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B85-356B-4105-9CA0-925BA89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C2AA-81DD-4A4A-8D79-951CC08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246F-C13C-4D68-82BB-EDD97A7B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937C-F47B-44F2-B7C1-683BD1D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713-45ED-4013-84AA-0FCA7A2C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C22E-49F0-43C9-B2A2-8C811B23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D0B-4845-46B8-AD32-913D18A7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513E-0259-4C0C-B65F-48C8FD05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8393-4D97-4F9D-AD8B-1E916263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8587-F760-433B-8672-14D82660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228-E2E1-430E-B691-C740BFA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83F-37EA-4B82-8645-2A9B7E63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DC3-265F-421C-9B0D-62369E9B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EBE-3061-4C1F-9375-B1C636C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C30-FA50-4FB5-8D14-B21AFEA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1A1-D57D-4ADD-87C1-EC9159C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2B9-9454-43EE-B124-13715E8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9620-E50D-40F5-BF76-4C2C46E88C9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80880"/>
            <a:ext cx="6840720" cy="142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ff4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7BD-2315-4719-A26D-0FCE4010E30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Session #2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pairs, select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ctivity from your CLIP to share with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presentation (few minutes) highlight your response to one or more of the questions posed during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your template to make notes on the CLIPS that you didn’t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to consider for the presentations of your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address a common misunderstanding that student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help students to develop understanding of the big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  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ew examples chosen from the Mathematical Processes Book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ing &amp; Proving: How can we show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ng: What do you notice abou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ng:  What are the connections between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rn and Talk Share question(s)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 of screen captures on the Interactive 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2360" y="3392640"/>
            <a:ext cx="32799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awareness of Trig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LIPS, the misunderstandings, and the big ideas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content knowledge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676520"/>
          <a:ext cx="654552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54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sed on today’s session, complete your Trigonometric Functions journal, focusing on the prompts that are most meaningfu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wo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27280" y="2097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awareness of Trig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LIPS, the misunderstandings, and the big ideas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content knowledge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Connect and Practice</a:t>
            </a:r>
            <a:r>
              <a:rPr b="0" lang="en-US" sz="2800" spc="-1" strike="noStrike">
                <a:solidFill>
                  <a:srgbClr val="0d469b"/>
                </a:solidFill>
                <a:latin typeface="Arial"/>
              </a:rPr>
              <a:t> (session 1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n pairs, choose a specific expectation from the trigonometric functions strand from any Grade 11 or 12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write the expectation as a learning goal to support the development of on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reate a question that would help students to meet the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xpectation, learning goal and question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Peer Review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another set of pairs and exchange your learning goals and questions, and provide feedback for ed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the popsicle stick prompts during the peer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: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learning goal question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your own brainstorm potential misconceptions/struggles/partial understandings of trigonometric functions that students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th a partner compare, contrast, summarize you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able groups, collate and 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12000" y="4724280"/>
            <a:ext cx="1658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tour of CLIPS: Periodic &amp; Sine Functions and Their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95640" y="3392640"/>
            <a:ext cx="219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a partner, select one of the CLIPS from Tour of CLIPS, there are 7, we want to explore each of them and no more than two pairs may select the same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Tour of CLIPS to investigate how the CLIP connects to a potential misconception/struggle/partial understanding and the Big Ideas for Tr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to consider for your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address a common misunderstanding that student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help students to develop understanding of the big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ervices</cp:lastModifiedBy>
  <dcterms:modified xsi:type="dcterms:W3CDTF">2009-08-18T21:46:08Z</dcterms:modified>
  <cp:revision>105</cp:revision>
  <dc:subject/>
  <dc:title>Slide 1</dc:title>
</cp:coreProperties>
</file>